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8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239F-7152-4741-B339-90D9F58D55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752C-19FA-41D7-A41F-FA2B57CE8A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E747-C35B-49C5-B5D6-A86612F5F4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2250-2A40-40A9-BE75-16B172D1DC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FFC2-7B42-4B23-A7D3-8219BD5EA0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C546-2492-42F9-A6FE-30372B179B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86D7-FB6A-4208-B7DE-8BE725D95F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1599-D8FC-45B3-9D6D-7CBB51BDFE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0DE0-6CDD-4C3C-9CE4-DB1DD82BF0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9076-7645-4BAC-8BFF-5C1E124308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8CF3-136E-49F0-924A-E5A778E2FF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7B9C-7BEB-460B-8A35-EF26C9879A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C9A0-DCB6-4BE2-88B3-EE3109860F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A6E8-5675-416C-82C9-D1A100BA61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137F-0CD7-4412-858B-77B8C5BF57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9939-97E5-4EBE-B37C-B5B8E7D42B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03E4-FACE-4D73-A0C6-4246EA8881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D190-C799-4C81-881C-625A1BF7FF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8BE4-25E1-4905-8840-4FA722A601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B5EB-2E3C-41FA-9F24-DC7C3AA6AB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D4F2-43AC-4671-A439-8F2F17D712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D9C4-102F-4C83-9231-3CCD603095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D490-8DAA-46F6-BAB4-090ACEB6EE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6154-97DE-4E30-89FC-8B7FA6AD36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B90F-1173-4E06-BA11-C4EDBC7E93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868B-87F4-4689-BAC9-78760B6966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8D1F-FAA7-46DC-BED8-2C0AB42012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2B53-AA33-4B78-A2A7-CABDE98BEE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18D6-14DA-48E6-8EB6-B8F44E7433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0DCE-48AA-4709-B22D-705C0A9EFC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C24D-BF45-4C74-8903-1EC098EF66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1C24-46A1-4215-968C-A85E09DDFE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2582-037E-4A3A-BDE5-A02A8E5E23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DE6D-1FB2-4163-BEC8-447E61CBC2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221-E3EC-4209-A05B-90065955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C89-4A14-4166-B419-9170B2EF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F46-09D6-4795-9C3F-1C51AD23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EB3-885E-4918-A404-B4216B60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0BE0-04B8-43E1-8693-E281BC20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F620-5A08-4CF7-B046-D26A5F4F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15D3-6830-4F74-AEDF-FFF14DBE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1D22-6975-41B6-B67F-B90AA0BB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7E85-C316-4DEA-8655-68F6501E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F26B-C6FC-4322-B168-20863807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AF85-871B-432A-BD5A-5313D3FD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9E9-33AB-4659-9D25-19A47330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87CC-23DA-4D67-A133-5732277E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709D-31A5-4774-8AFE-1C92413B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078E-E6E0-471D-BDDB-FAE5DB85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79BF-DC38-45F4-A652-6EB46A4D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848B-8988-4B51-B222-1146AD29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6DD-8373-44A9-B5A8-3222B163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CAF-A7E7-4F82-A0D1-7276C5D4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4DD-1BA2-463B-AA2B-02E86F14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9D5-E261-44BD-BA9F-E25D5FBD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BE4-0885-4A94-8E9B-C69D5C2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C38-2959-4D4E-BFA0-41A7AF44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900-8BAF-4342-A574-BAE139EE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3C59-25D6-483C-9C62-61C20D134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6BD9-A3AB-4B94-8358-489A294AD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ançais 3 – Unité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n appét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çon A – Au supermarch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 repas traditionnel franç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6813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http://www.parisrestopromo.com/restaurant/restaurant/images-resto/101_charcuterie.jpg"/>
          <p:cNvPicPr/>
          <p:nvPr/>
        </p:nvPicPr>
        <p:blipFill>
          <a:blip r:embed="rId1"/>
          <a:stretch/>
        </p:blipFill>
        <p:spPr>
          <a:xfrm>
            <a:off x="1676520" y="1081080"/>
            <a:ext cx="5943600" cy="448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295280" y="5638680"/>
            <a:ext cx="72392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’assiette (f) de charcuteri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entré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36860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2" descr="http://recettes.viabloga.com/images/Assiette%20Crudites_t.jpg"/>
          <p:cNvPicPr/>
          <p:nvPr/>
        </p:nvPicPr>
        <p:blipFill>
          <a:blip r:embed="rId1"/>
          <a:stretch/>
        </p:blipFill>
        <p:spPr>
          <a:xfrm>
            <a:off x="1295280" y="1103400"/>
            <a:ext cx="6477120" cy="4665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1675800" y="5805360"/>
            <a:ext cx="592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’assiette (f) de crudité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entré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361008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2" descr="http://danslacuisine.free.fr/Images/ENTR004PH1.jpg"/>
          <p:cNvPicPr/>
          <p:nvPr/>
        </p:nvPicPr>
        <p:blipFill>
          <a:blip r:embed="rId1"/>
          <a:stretch/>
        </p:blipFill>
        <p:spPr>
          <a:xfrm>
            <a:off x="1676520" y="1004760"/>
            <a:ext cx="6095880" cy="45561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2435040" y="5805360"/>
            <a:ext cx="462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carottes râpé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76320" y="304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entré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3676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2" descr="http://adetinte.club.fr/images/celeri_remoulade_640.jpg"/>
          <p:cNvPicPr/>
          <p:nvPr/>
        </p:nvPicPr>
        <p:blipFill>
          <a:blip r:embed="rId1"/>
          <a:stretch/>
        </p:blipFill>
        <p:spPr>
          <a:xfrm>
            <a:off x="1600200" y="1004760"/>
            <a:ext cx="6324480" cy="4743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2513880" y="5805360"/>
            <a:ext cx="48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céleri rémoulad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entré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37670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839680" y="5576760"/>
            <a:ext cx="412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fruits de m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304920"/>
            <a:ext cx="9753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http://guennbretagne.g.u.pic.centerblog.net/o/d7c1b7c5.jpg"/>
          <p:cNvPicPr/>
          <p:nvPr/>
        </p:nvPicPr>
        <p:blipFill>
          <a:blip r:embed="rId1"/>
          <a:stretch/>
        </p:blipFill>
        <p:spPr>
          <a:xfrm>
            <a:off x="1676520" y="9907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357192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289320" y="587520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moul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380880"/>
            <a:ext cx="9601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2" descr="http://www.coquillages-de-bretagne.com/catalog/images/recettesmoules/moules_cidre.jpg"/>
          <p:cNvPicPr/>
          <p:nvPr/>
        </p:nvPicPr>
        <p:blipFill>
          <a:blip r:embed="rId1"/>
          <a:stretch/>
        </p:blipFill>
        <p:spPr>
          <a:xfrm>
            <a:off x="1905120" y="990720"/>
            <a:ext cx="56005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35434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95960" y="5342040"/>
            <a:ext cx="812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saumon à la sauce hollandais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388800"/>
            <a:ext cx="94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2" descr="http://recette.cuisine.notrefamille.com/images/cuisine/recettes-fiche/saumon-vapeur-a-la-sauce-hollandaise-_23016.jpg"/>
          <p:cNvPicPr/>
          <p:nvPr/>
        </p:nvPicPr>
        <p:blipFill>
          <a:blip r:embed="rId1"/>
          <a:stretch/>
        </p:blipFill>
        <p:spPr>
          <a:xfrm>
            <a:off x="3124080" y="1074600"/>
            <a:ext cx="312444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37004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207960" y="5653080"/>
            <a:ext cx="328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escargo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457200"/>
            <a:ext cx="9448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2" descr="http://www.recette.net/images/articles/escargots.jpg"/>
          <p:cNvPicPr/>
          <p:nvPr/>
        </p:nvPicPr>
        <p:blipFill>
          <a:blip r:embed="rId1"/>
          <a:stretch/>
        </p:blipFill>
        <p:spPr>
          <a:xfrm>
            <a:off x="1905120" y="1295280"/>
            <a:ext cx="577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63852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911680" y="5486400"/>
            <a:ext cx="331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coq au v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457200"/>
            <a:ext cx="9524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" descr="http://media-cdn.tripadvisor.com/media/photo-s/01/6a/89/0b/coq-au-vin.jpg"/>
          <p:cNvPicPr/>
          <p:nvPr/>
        </p:nvPicPr>
        <p:blipFill>
          <a:blip r:embed="rId1"/>
          <a:stretch/>
        </p:blipFill>
        <p:spPr>
          <a:xfrm>
            <a:off x="1600200" y="1281240"/>
            <a:ext cx="5715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371952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2" descr="http://rds.yahoo.com/_ylt=A9gnMiJOag1Fb04BHzyjzbkF;_ylu=X3oDMTA4NDgyNWN0BHNlYwNwcm9m/SIG=12codp8me/EXP=1158593486/**http%3a//noella.ifrance.com/fetes/recettes/saladeverte.jpg"/>
          <p:cNvPicPr/>
          <p:nvPr/>
        </p:nvPicPr>
        <p:blipFill>
          <a:blip r:embed="rId1"/>
          <a:stretch/>
        </p:blipFill>
        <p:spPr>
          <a:xfrm>
            <a:off x="1752480" y="1066680"/>
            <a:ext cx="5943600" cy="47149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3046320" y="5867280"/>
            <a:ext cx="367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salade vert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aprè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Contex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ur la fête d’anniversaire de votre ami, vous voulez préparer un repas traditionnel frança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ous savez déjà un peu du repas traditionnel, mais vous pouvez utiliser une rev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ors vous avez demandé à un ami français de vous expliquer le repas traditionn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76236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2" descr="http://rds.yahoo.com/_ylt=A9gnMiSZag1FhBwAxDajzbkF;_ylu=X3oDMTA4NDgyNWN0BHNlYwNwcm9m/SIG=12vikdo1k/EXP=1158593561/**http%3a//www.regeservice.ch/images/Fromage/Assiette%2520de%2520fromages07.jpg"/>
          <p:cNvPicPr/>
          <p:nvPr/>
        </p:nvPicPr>
        <p:blipFill>
          <a:blip r:embed="rId1"/>
          <a:stretch/>
        </p:blipFill>
        <p:spPr>
          <a:xfrm>
            <a:off x="2360520" y="1081080"/>
            <a:ext cx="5181840" cy="47545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1902960" y="5805360"/>
            <a:ext cx="602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’assiette (f) de fromag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aprè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38862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2" descr="http://www.harmoniesante.com/HS/choixnutri/partenaires/p_chevrefin.jpg"/>
          <p:cNvPicPr/>
          <p:nvPr/>
        </p:nvPicPr>
        <p:blipFill>
          <a:blip r:embed="rId1"/>
          <a:stretch/>
        </p:blipFill>
        <p:spPr>
          <a:xfrm>
            <a:off x="838080" y="1461960"/>
            <a:ext cx="4572000" cy="38736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4100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http://fromage.de.chevre.free.fr/index.1.gif"/>
          <p:cNvPicPr/>
          <p:nvPr/>
        </p:nvPicPr>
        <p:blipFill>
          <a:blip r:embed="rId2"/>
          <a:stretch/>
        </p:blipFill>
        <p:spPr>
          <a:xfrm>
            <a:off x="5562720" y="2071800"/>
            <a:ext cx="3047760" cy="2309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1598400" y="5653080"/>
            <a:ext cx="53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fromage de chèvr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fromag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6432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2" descr="http://www.nestle.com.au/Upload/AU/maggi/recipeimages/CremeCaramel.jpg"/>
          <p:cNvPicPr/>
          <p:nvPr/>
        </p:nvPicPr>
        <p:blipFill>
          <a:blip r:embed="rId1"/>
          <a:stretch/>
        </p:blipFill>
        <p:spPr>
          <a:xfrm>
            <a:off x="1905120" y="1233360"/>
            <a:ext cx="5486400" cy="4361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589120" y="5881680"/>
            <a:ext cx="434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crème caramel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desser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36194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667600" y="5653080"/>
            <a:ext cx="43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tarte aux frui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6" descr="http://www.patisserie-piermattei.fr/photos/tarte_fruits.jpg"/>
          <p:cNvPicPr/>
          <p:nvPr/>
        </p:nvPicPr>
        <p:blipFill>
          <a:blip r:embed="rId1"/>
          <a:stretch/>
        </p:blipFill>
        <p:spPr>
          <a:xfrm>
            <a:off x="2362320" y="1262160"/>
            <a:ext cx="4876560" cy="43765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0" y="57636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desser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6194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081160" y="5653080"/>
            <a:ext cx="55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mousse au chocol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6159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desser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2" descr="http://borntobecooked.b.o.pic.centerblog.net/qims9obd.jpg"/>
          <p:cNvPicPr/>
          <p:nvPr/>
        </p:nvPicPr>
        <p:blipFill>
          <a:blip r:embed="rId1"/>
          <a:stretch/>
        </p:blipFill>
        <p:spPr>
          <a:xfrm>
            <a:off x="2362320" y="1301760"/>
            <a:ext cx="45720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36813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90720" y="5729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v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boiss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2" descr="http://files.meilleurduchef.com/mdc/photo/produits/sim/verre_vin_rouge_palace_36_01.jpg"/>
          <p:cNvPicPr/>
          <p:nvPr/>
        </p:nvPicPr>
        <p:blipFill>
          <a:blip r:embed="rId1"/>
          <a:stretch/>
        </p:blipFill>
        <p:spPr>
          <a:xfrm>
            <a:off x="3429000" y="1860480"/>
            <a:ext cx="25146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36813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90720" y="5729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’eau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’on prend comme boisson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2" descr="http://www.1001remedes.com/wp-content/uploads/remede-grand-mere-mal-de-gorge-1.jpg"/>
          <p:cNvPicPr/>
          <p:nvPr/>
        </p:nvPicPr>
        <p:blipFill>
          <a:blip r:embed="rId1"/>
          <a:stretch/>
        </p:blipFill>
        <p:spPr>
          <a:xfrm>
            <a:off x="2286000" y="167652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36813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990720" y="5729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un Coca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boiss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36813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990720" y="5729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thé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’est-ce qu’on prend comme boiss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2" descr="http://farm4.staticflickr.com/3071/2416794826_30cfc50851_z.jpg?zz=1"/>
          <p:cNvPicPr/>
          <p:nvPr/>
        </p:nvPicPr>
        <p:blipFill>
          <a:blip r:embed="rId1"/>
          <a:stretch/>
        </p:blipFill>
        <p:spPr>
          <a:xfrm>
            <a:off x="1676520" y="1676520"/>
            <a:ext cx="60958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atiquons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20574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dînez dans un restaurant français avec vos am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regardez le menu et discutez les plats offer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, demandez à vos amis ce qu’ils veulent pren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Tâc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couter la description des parties d’un repas traditio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lasser des plats typiques français dans la catégorie appropri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6813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4" descr="http://www.parisrestopromo.com/restaurant/restaurant/images-resto/101_charcuterie.jpg"/>
          <p:cNvPicPr/>
          <p:nvPr/>
        </p:nvPicPr>
        <p:blipFill>
          <a:blip r:embed="rId1"/>
          <a:stretch/>
        </p:blipFill>
        <p:spPr>
          <a:xfrm>
            <a:off x="1676520" y="1081080"/>
            <a:ext cx="5943600" cy="4481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990720" y="5729400"/>
            <a:ext cx="7238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’assiette (f) de charcuteri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2720" y="26028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Qu’est-ce que tu veux comme entré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-228600"/>
            <a:ext cx="853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èle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0" y="3505320"/>
            <a:ext cx="160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Je veux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357192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289320" y="587520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moul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43812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2" descr="http://www.coquillages-de-bretagne.com/catalog/images/recettesmoules/moules_cidre.jpg"/>
          <p:cNvPicPr/>
          <p:nvPr/>
        </p:nvPicPr>
        <p:blipFill>
          <a:blip r:embed="rId1"/>
          <a:stretch/>
        </p:blipFill>
        <p:spPr>
          <a:xfrm>
            <a:off x="1905120" y="1047600"/>
            <a:ext cx="560052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36860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2" descr="http://recettes.viabloga.com/images/Assiette%20Crudites_t.jpg"/>
          <p:cNvPicPr/>
          <p:nvPr/>
        </p:nvPicPr>
        <p:blipFill>
          <a:blip r:embed="rId1"/>
          <a:stretch/>
        </p:blipFill>
        <p:spPr>
          <a:xfrm>
            <a:off x="1295280" y="1103400"/>
            <a:ext cx="6477120" cy="4665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1675800" y="5805360"/>
            <a:ext cx="592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’assiette (f) de crudité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612720" y="457200"/>
            <a:ext cx="853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entré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6194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081160" y="5653080"/>
            <a:ext cx="55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mousse au chocol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desser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2" descr="http://borntobecooked.b.o.pic.centerblog.net/qims9obd.jpg"/>
          <p:cNvPicPr/>
          <p:nvPr/>
        </p:nvPicPr>
        <p:blipFill>
          <a:blip r:embed="rId1"/>
          <a:stretch/>
        </p:blipFill>
        <p:spPr>
          <a:xfrm>
            <a:off x="2362320" y="990720"/>
            <a:ext cx="45720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388620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" descr="http://www.harmoniesante.com/HS/choixnutri/partenaires/p_chevrefin.jpg"/>
          <p:cNvPicPr/>
          <p:nvPr/>
        </p:nvPicPr>
        <p:blipFill>
          <a:blip r:embed="rId1"/>
          <a:stretch/>
        </p:blipFill>
        <p:spPr>
          <a:xfrm>
            <a:off x="838080" y="1461960"/>
            <a:ext cx="4572000" cy="38736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4100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4" descr="http://fromage.de.chevre.free.fr/index.1.gif"/>
          <p:cNvPicPr/>
          <p:nvPr/>
        </p:nvPicPr>
        <p:blipFill>
          <a:blip r:embed="rId2"/>
          <a:stretch/>
        </p:blipFill>
        <p:spPr>
          <a:xfrm>
            <a:off x="5562720" y="2071800"/>
            <a:ext cx="3047760" cy="23097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1598400" y="5653080"/>
            <a:ext cx="53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fromage de chèvr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fromag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361008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Picture 2" descr="http://danslacuisine.free.fr/Images/ENTR004PH1.jpg"/>
          <p:cNvPicPr/>
          <p:nvPr/>
        </p:nvPicPr>
        <p:blipFill>
          <a:blip r:embed="rId1"/>
          <a:stretch/>
        </p:blipFill>
        <p:spPr>
          <a:xfrm>
            <a:off x="1676520" y="1004760"/>
            <a:ext cx="6095880" cy="45561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2435040" y="5805360"/>
            <a:ext cx="462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carottes râpé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612720" y="380880"/>
            <a:ext cx="853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entré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36194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667600" y="5653080"/>
            <a:ext cx="43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tarte aux frui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6" descr="http://www.patisserie-piermattei.fr/photos/tarte_fruits.jpg"/>
          <p:cNvPicPr/>
          <p:nvPr/>
        </p:nvPicPr>
        <p:blipFill>
          <a:blip r:embed="rId1"/>
          <a:stretch/>
        </p:blipFill>
        <p:spPr>
          <a:xfrm>
            <a:off x="2362320" y="990720"/>
            <a:ext cx="4876560" cy="43765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desser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7670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2839680" y="5576760"/>
            <a:ext cx="412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fruits de m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2" descr="http://guennbretagne.g.u.pic.centerblog.net/o/d7c1b7c5.jpg"/>
          <p:cNvPicPr/>
          <p:nvPr/>
        </p:nvPicPr>
        <p:blipFill>
          <a:blip r:embed="rId1"/>
          <a:stretch/>
        </p:blipFill>
        <p:spPr>
          <a:xfrm>
            <a:off x="1676520" y="838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35434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795960" y="5418000"/>
            <a:ext cx="812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saumon à la sauce hollandais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46512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2" descr="http://recette.cuisine.notrefamille.com/images/cuisine/recettes-fiche/saumon-vapeur-a-la-sauce-hollandaise-_23016.jpg"/>
          <p:cNvPicPr/>
          <p:nvPr/>
        </p:nvPicPr>
        <p:blipFill>
          <a:blip r:embed="rId1"/>
          <a:stretch/>
        </p:blipFill>
        <p:spPr>
          <a:xfrm>
            <a:off x="3124080" y="1150920"/>
            <a:ext cx="31244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37004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207960" y="5653080"/>
            <a:ext cx="328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s escargo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2" descr="http://www.recette.net/images/articles/escargots.jpg"/>
          <p:cNvPicPr/>
          <p:nvPr/>
        </p:nvPicPr>
        <p:blipFill>
          <a:blip r:embed="rId1"/>
          <a:stretch/>
        </p:blipFill>
        <p:spPr>
          <a:xfrm>
            <a:off x="1905120" y="1066680"/>
            <a:ext cx="577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 repas traditionnel franç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abord on commence pa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entré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49568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3676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2" descr="http://adetinte.club.fr/images/celeri_remoulade_640.jpg"/>
          <p:cNvPicPr/>
          <p:nvPr/>
        </p:nvPicPr>
        <p:blipFill>
          <a:blip r:embed="rId1"/>
          <a:stretch/>
        </p:blipFill>
        <p:spPr>
          <a:xfrm>
            <a:off x="1600200" y="1004760"/>
            <a:ext cx="6324480" cy="47437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2513880" y="5805360"/>
            <a:ext cx="48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céleri rémoulad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612720" y="380880"/>
            <a:ext cx="853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entré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36432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2" descr="http://www.nestle.com.au/Upload/AU/maggi/recipeimages/CremeCaramel.jpg"/>
          <p:cNvPicPr/>
          <p:nvPr/>
        </p:nvPicPr>
        <p:blipFill>
          <a:blip r:embed="rId1"/>
          <a:stretch/>
        </p:blipFill>
        <p:spPr>
          <a:xfrm>
            <a:off x="1905120" y="1233360"/>
            <a:ext cx="5486400" cy="43610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2589120" y="5881680"/>
            <a:ext cx="434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a crème caramel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desser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63852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911680" y="5486400"/>
            <a:ext cx="331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e coq au v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51912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tu veux comme plat principal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2" descr="http://media-cdn.tripadvisor.com/media/photo-s/01/6a/89/0b/coq-au-vin.jpg"/>
          <p:cNvPicPr/>
          <p:nvPr/>
        </p:nvPicPr>
        <p:blipFill>
          <a:blip r:embed="rId1"/>
          <a:stretch/>
        </p:blipFill>
        <p:spPr>
          <a:xfrm>
            <a:off x="1600200" y="1204920"/>
            <a:ext cx="5715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 repas traditionnel franç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ite, on mang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plat princip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 repas traditionnel franç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is, on mang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salade ver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47242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 repas traditionnel franç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ès, on pass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plateau de from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3543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 repas traditionnel franç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ement, on prend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dess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2557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gardons le menu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2" descr="http://www.tavernedominion.com/img/menu-francais-siteweb.jpg"/>
          <p:cNvPicPr/>
          <p:nvPr/>
        </p:nvPicPr>
        <p:blipFill>
          <a:blip r:embed="rId1"/>
          <a:stretch/>
        </p:blipFill>
        <p:spPr>
          <a:xfrm>
            <a:off x="2819520" y="1219320"/>
            <a:ext cx="3419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01-08T11:35:00Z</dcterms:modified>
  <cp:revision>94</cp:revision>
  <dc:subject/>
  <dc:title>Allez, viens! – Level 2</dc:title>
</cp:coreProperties>
</file>